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B75C-9303-42E9-963E-23FFE955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8C3C-AF08-4629-BB0E-4C515FAB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6F0E-4FF4-404B-9741-37F042D5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4CD9-6128-4198-8D88-FA54D6C7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534C-65D6-43DB-898E-2A83D9ED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9489-7511-4851-BCD8-23966DE4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D411-52BF-4E7D-8A9B-68401571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41BD-14F4-4C57-9637-2F178694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8D38-2E01-4A3E-B0EB-722FB4BB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EE64-FC16-40B5-B09F-A6A6C9AC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2987-CF69-473F-8668-C56FF2DF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0048-E35B-4BD2-BF29-E4544EB5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98CB-5BC7-410D-B781-8BFE71B0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AC90-5690-4D3C-9E33-8AF2385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32C7-E412-4277-9D89-50A74584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D232-291B-406B-867C-46BC8C38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6E6F-0B64-4653-B0EF-5048E766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34D1-CA96-477D-AAF4-C9C84BC6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F049-85A3-4262-8BA0-D0671BBA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CDBAB-A891-46AE-B616-93B9BE87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1AEB-F1D1-4051-8E68-C75FC62A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D23B-63C8-45E8-9837-0660EAA6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F96D-BCFB-4CBB-817B-347F4BC0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ECA3-6FCB-4953-BAE8-1879BA1F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1F4B-E7BF-4173-B571-E2D050F8FC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5873-01B8-41D7-90BD-6F0BCC718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tmosphere.mpg.de/media/archive/345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ceandrilling.org/Documents/Oceanus/Lith/Lith3HR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hapter 5 Biogeochemical Cycl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24080" y="99072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ke Washingto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[Map of Washington]"/>
          <p:cNvPicPr/>
          <p:nvPr/>
        </p:nvPicPr>
        <p:blipFill>
          <a:blip r:embed="rId1"/>
          <a:stretch/>
        </p:blipFill>
        <p:spPr>
          <a:xfrm>
            <a:off x="1447920" y="22096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Map of Global Tectonic and Volcanic Activity of the Last One Million Years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logic Cycle: Ch 19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Image of hydrologic cycle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Global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we fi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have an atm s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carbon cycle be thrown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rb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seous (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 Most important organic comp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sea-carbon-cycle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43" name="Line 7"/>
          <p:cNvSpPr/>
          <p:nvPr/>
        </p:nvSpPr>
        <p:spPr>
          <a:xfrm>
            <a:off x="533520" y="2514600"/>
            <a:ext cx="53316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H="1">
            <a:off x="5867280" y="3124080"/>
            <a:ext cx="99072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we find 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have an atm s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the nitrogen cycle be thrown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ost of the atm (about 8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Lightning along Oswalt Road near Overbrook, OK, 28 Mar 0"/>
          <p:cNvPicPr/>
          <p:nvPr/>
        </p:nvPicPr>
        <p:blipFill>
          <a:blip r:embed="rId1"/>
          <a:stretch/>
        </p:blipFill>
        <p:spPr>
          <a:xfrm>
            <a:off x="4495680" y="3962520"/>
            <a:ext cx="4245120" cy="2895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Bugs"/>
          <p:cNvPicPr/>
          <p:nvPr/>
        </p:nvPicPr>
        <p:blipFill>
          <a:blip r:embed="rId2"/>
          <a:stretch/>
        </p:blipFill>
        <p:spPr>
          <a:xfrm>
            <a:off x="4495680" y="762120"/>
            <a:ext cx="4191120" cy="29844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3"/>
          <p:cNvSpPr/>
          <p:nvPr/>
        </p:nvSpPr>
        <p:spPr>
          <a:xfrm>
            <a:off x="6399720" y="2286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m. tons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6629400" y="4038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m. tons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8229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trogen cycle key steps!!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in atmosphere as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in the soi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Nitrogen fixation: fixes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a form plants can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Other bacteria convert ammonia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trat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 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stem-tubers-rhizomes"/>
          <p:cNvPicPr/>
          <p:nvPr/>
        </p:nvPicPr>
        <p:blipFill>
          <a:blip r:embed="rId1"/>
          <a:stretch/>
        </p:blipFill>
        <p:spPr>
          <a:xfrm>
            <a:off x="6392880" y="3886200"/>
            <a:ext cx="27511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o living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Plants absorb nitrates and ammonia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plant roo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3367080"/>
            <a:ext cx="449604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into soil aga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into the atm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fr_chapter5_figure1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Line 6"/>
          <p:cNvSpPr/>
          <p:nvPr/>
        </p:nvSpPr>
        <p:spPr>
          <a:xfrm>
            <a:off x="457200" y="3657600"/>
            <a:ext cx="22860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6"/>
          <p:cNvSpPr/>
          <p:nvPr/>
        </p:nvSpPr>
        <p:spPr>
          <a:xfrm>
            <a:off x="762120" y="4343400"/>
            <a:ext cx="160020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nitrogen cycle1.gif (124063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5943600" y="685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%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029200" y="4495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m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505320" y="6095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trification 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209680" y="5257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trification 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266688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3434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trogen fix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76212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it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iosis - Crop 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ropro01"/>
          <p:cNvPicPr/>
          <p:nvPr/>
        </p:nvPicPr>
        <p:blipFill>
          <a:blip r:embed="rId1"/>
          <a:stretch/>
        </p:blipFill>
        <p:spPr>
          <a:xfrm>
            <a:off x="228600" y="1752480"/>
            <a:ext cx="4648320" cy="4800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alder8s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orus has no atm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affect its’ use by l.t.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ru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gaseous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in rocks and organic material in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 to microbial action, changed to phosphates  (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H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which plants can access. (slow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phosphorous-cycle"/>
          <p:cNvPicPr/>
          <p:nvPr/>
        </p:nvPicPr>
        <p:blipFill>
          <a:blip r:embed="rId1"/>
          <a:stretch/>
        </p:blipFill>
        <p:spPr>
          <a:xfrm>
            <a:off x="155520" y="46080"/>
            <a:ext cx="868356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iogeochemical cyc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a chem takes through air, water, soil, orgs. and back to air 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aken to cycle v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eous elements fa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gaseous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logic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tonic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continent spreading and converging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40_43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layer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constantly created and destroyed.  Large segments (tectonic plates) move past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fault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gen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 fault  = sli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sanandreas"/>
          <p:cNvPicPr/>
          <p:nvPr/>
        </p:nvPicPr>
        <p:blipFill>
          <a:blip r:embed="rId1"/>
          <a:stretch/>
        </p:blipFill>
        <p:spPr>
          <a:xfrm>
            <a:off x="838080" y="1295280"/>
            <a:ext cx="7191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403848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t = coll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Himalayas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gent = sp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m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9907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00:23Z</dcterms:created>
  <dc:creator>tosborne</dc:creator>
  <dc:description/>
  <dc:language>en-US</dc:language>
  <cp:lastModifiedBy>infosys</cp:lastModifiedBy>
  <dcterms:modified xsi:type="dcterms:W3CDTF">2013-09-25T16:10:19Z</dcterms:modified>
  <cp:revision>44</cp:revision>
  <dc:subject/>
  <dc:title>Chapter 4 Biogeochemical Cycles</dc:title>
</cp:coreProperties>
</file>